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F2B-79D8-44EB-BBDA-34ACB5AD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C4B-67F3-4039-885C-64F85DD2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E509-F64D-4EB9-9858-6CFCEE39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BE2-FF60-4F99-A6C7-D825ED00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9D0-A3D2-49FB-A2EB-ACD007A0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1CF-790A-4283-8918-0E274876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689-1314-4420-A6C3-6E47A822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3F8-0D1B-4D9D-A27C-5DF40287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FF2-BBCD-47AB-BFC2-B2306CBC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276-FE8D-42E0-8DA9-06079097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A4C-0184-4A0F-8CD6-D10E8D4C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06A-F381-47D4-8D49-8AB379A6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2B87-30F5-4AD4-BBD0-6153277A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9-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I can identify problems and evaluate solu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8951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atch the vide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hat was ONE problem and the solution/s?  Was/were the solution/s effective?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 Problems/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Problems and Solutions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“Fighting for Fairnes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will begin the problem/solution graphic organizer together, and then you will finish it by your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you complete the graphic organizer,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ndependen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oose an article from the front of the r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LET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 annotations on the artic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RR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RJ, answ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ajor problem (conflict) in your article?  What were the solutions?  Explain if you believe the solution was or was not ef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RRJ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ain problem in my article is that 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olution was to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know this because the text said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text also mentioned 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do OR do not believe this solution was effective because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RRJs with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1:16:55Z</dcterms:created>
  <dc:creator>Administrator</dc:creator>
  <dc:description/>
  <dc:language>en-US</dc:language>
  <cp:lastModifiedBy>Administrator</cp:lastModifiedBy>
  <dcterms:modified xsi:type="dcterms:W3CDTF">2010-08-31T22:28:27Z</dcterms:modified>
  <cp:revision>4</cp:revision>
  <dc:subject/>
  <dc:title>9-1 I can identify problems and evaluate solutions.</dc:title>
</cp:coreProperties>
</file>